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25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399A-5CA4-4FE3-A55C-487C421C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75D-B780-42F8-9E97-36016DE3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B5E9-FAFF-49D4-9DC5-639DE43C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C7D-EA17-4392-9B72-70A1A458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564-D6E0-4023-A58C-ED98A330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A09-27C4-47FB-B772-E47B2379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1074-EC6B-4E49-92E9-F2C432DD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3E8-9265-4926-9F2A-AF1FED67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469-73EA-4EBE-9986-BBB1C596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C06-5245-4B86-A730-4F6BCEEE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C933-36D2-40B7-BADC-9905E49F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A99-EDC4-4821-ADAD-66EB558A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7506-161B-4DD5-8AFB-23723404B43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D WAR 1953-19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4156200" cy="4452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2480" y="61722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kita Khrushchev (1958-196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2496" b="0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79640" y="609120"/>
            <a:ext cx="467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Berlin 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vision of Germ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49 the Western powers (USA, GB, France) joined their zones together to form the Federal German Republic. (West Germ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ns responded by turning their zone into the German Democratic Republic. (East Germ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 Germany prospered under the Marshall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800600" y="2114640"/>
            <a:ext cx="4038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eople living in East Germany were not as well off as West Germans and escaped into West Germa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July, 1961 approximately 10 000 East Germans were leaving per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000 000 people had fled since 194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all cont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only embarrassing for the government of East Germany but damaging economically because many of the refugees were skilled work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ugust of 1961 the East German government constructs a wall to stop people from leaving East Germ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43400" y="2438280"/>
            <a:ext cx="4572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BAN MISSILE 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86764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5 km of the US co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59 Communist Revolution in Cuba led by Fidel Cas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0" y="2187720"/>
            <a:ext cx="38149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ba cont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ba nationalized all industry in Cub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US business and interests in Cuba were lo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 claimed they were stolen by Cuban gov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 president Eisenhower agreed to help Cubans wishing to overthrow Cast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January, 1961 John F. Kennedy takes over as President and continues this prom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3280" y="2201760"/>
            <a:ext cx="38149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5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 OF PI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 1961, 1400 anti-Castro Cubans landed at the Bay of Pigs in Cuba to try and overthrow Cas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ro was ready with troops and artillery and stopped the thr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396252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 of Pigs cont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ro scared that Kennedy would help other rebellions asked Khrushchev for help, and Khrushchev sends weapons to Cas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nnedy worried about events keeps a close eye on Cu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3280" y="2728800"/>
            <a:ext cx="381492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-B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, 1952 American scientists exploded their first H-Bom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drogen bomb many times more destructive than the A-Bomb used at Hirosh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53, Russians also had H-Bom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re are optimists and pessimists in Britain’, the pessimists think that 5 h-bombs will wipe out everyone in Britain, the optimists think it would take eight. We have two hundred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29120" y="1981080"/>
            <a:ext cx="3245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08360" y="609120"/>
            <a:ext cx="474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Cuban Missile Cri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ans discovered Russian missile bases being built in 196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uban Missile 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ident Kennedy ordered an American blockade (quarantine) of Cuba to stop Russian ships from carrying missiles into Cu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00600" y="1878120"/>
            <a:ext cx="396252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uban Missile 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nedy then ordered Khrushchev to dismantle the missile bases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attack from Cuba would be treated as a direct attack on the USA by USSR and ordered 156 long range missiles aimed at the USSR to be ready to f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16360" y="2119320"/>
            <a:ext cx="36259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October 29, 1961 4 days after the blockade began Khrushchev “blinked first” and ordered the dismantling of all missile bases in Cub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ident Kennedy called off the blockade and promised to leave Cuba al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uban Missile 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hange in Superpower Relation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7878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for Det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sides realized how dangerous the situation had bec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 fighting in Vietnam - needed to slow Arms Race to reduce burden on econo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SR concerned about Communist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sides wanted to reduce economic expendi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tter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3 Hotline set up; nuclear test ban Treaty banned tests abov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8: Non-proliferation treaty banned spread of nuclear secr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9: Strategic Arms Limitation Talks began - reducing mid-range nuclear weapons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75280" y="2327400"/>
            <a:ext cx="338292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-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2: President Nixon visits Moscow and SALT 1 treaty sig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2: Agreements between East and West Germany sig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5: Space - US astronauts and Soviet Cosmonauts docked together in space.  Visible sig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3280" y="2529000"/>
            <a:ext cx="38149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sin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 19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sinki Agreement signed by 35 countries (including USSR and U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ation of Human R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borders of Europe accep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on of commitment to improve re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13360" y="2154240"/>
            <a:ext cx="307656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L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9: SALT 2 treaty proposed to cover long-range nuclear miss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ratified by US congress due to Soviet invasion of Afghanis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SR claimed they had been asked to 'restore order'.  US saw it as an invasion and supported Afghan reb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2568600"/>
            <a:ext cx="411480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isenhower &amp; Dul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52 Eisenhower was elected president of the 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appoints John Foster Dulles as his Secretary of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lles believed that communists were plotting to conquer the world and he was determined to stop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0844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trust and suspicion continued during Detente, but this was a period that saw co-operation and agre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sides had much to gain from increased co-operation - such as savings from a slower Arms race and trade bene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54, Dulles convinces nations in Asia to join the South East Asia Treaty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 was to contain communism in As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1219320"/>
            <a:ext cx="3111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ungarian Uprising (195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gary had been under Soviet control since 19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of Hungary rebelled against their communist l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n tanks were sent in and crushed the rev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major attempt by a satellite state to try and win indepen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270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utnik (195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, 1957 the USSR sent the world’s first earth satellite into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3280" y="266076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clear Miss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s scared of Soviet missile capability sped up production of rock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iggest rockets were called ICBM’s. (Inter-Continental Ballistic Miss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aris (carried by nuclear submari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the end of the 1950’s the superpowers had enough nuclear missiles to kill everyone on earth. (balance of terr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3280" y="3011400"/>
            <a:ext cx="38149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hrushchev &amp; Peaceful Co-Exist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rushchev believing that war would simply destroy each other turned to Peaceful co-exis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ing peacefully side by side knowing that capitalism would eventually destro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929120" y="1981080"/>
            <a:ext cx="3245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U-2 Inci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senhower welcomed Khrushchev’s peaceful co-existence and they agreed to meet in Paris in 1960 to talk pe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leaders were on there way to the summit an American U-2 spy plane was shot down over Russ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hrushchev angrily accused Eisenhower of planning for war while talking peace and refused to attend the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286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23:21:14Z</dcterms:created>
  <dc:creator>Ceara Ormond</dc:creator>
  <dc:description/>
  <dc:language>en-US</dc:language>
  <cp:lastModifiedBy>ripkensa</cp:lastModifiedBy>
  <dcterms:modified xsi:type="dcterms:W3CDTF">2009-05-04T23:34:13Z</dcterms:modified>
  <cp:revision>1</cp:revision>
  <dc:subject/>
  <dc:title>THE COLD WAR 1953-1960</dc:title>
</cp:coreProperties>
</file>